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B399-2823-4E82-9A26-5D9E5A9BE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C455-8B24-417E-8F01-D397AB6C7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B54B-1995-413B-8780-1D200860F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57C6-E3D7-403B-882C-39FCF6BA3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81B5-A6D3-46A4-B9D3-5808B661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813-E7D2-4848-8890-3BA5A6F3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636-AD46-4F6F-B493-8213B86C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563-CC87-4308-91D3-008D3367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D6CD-5128-4971-8458-7464C81D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5994-CEF6-4BFE-88EA-8E60B346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365F-DAAD-42C2-86E6-77E40833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E142-E0EE-400E-8C85-6FDCC64D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620A-A230-4E1E-86DC-80A06F8D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3026-1489-47C9-A9B8-CF9DE565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FC5C-8759-41B2-9F88-D7AF68B5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F54-C421-4CA6-9106-A5880C73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E52F-FC73-4F63-803C-3EF83473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F2B8-F346-4848-9BD5-A827D390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473F-A87E-484D-B257-0ADCC22B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C91C-8BB8-490B-988A-A50AA2A2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5565-82C4-4207-984B-CE860814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85DD5-7B5B-47A3-A21A-18B193D7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0B72-52FE-4B2C-BAFB-A9B19E5F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58157-0CBC-41BD-A3A6-49666D0A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AD89B-AC41-4511-B7AD-7D1808CF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6E97-F947-4D02-990D-4ECDCE2B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78A-28F7-4A5B-AB9A-AA1D4E02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F42B8-B41A-46F7-A8CA-64D37472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12F36-2972-44EF-9752-8EA3C261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B7242-5C27-4119-807C-CF02B1B0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1E0DB-8213-4D00-97C6-2CF166B3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3AC1-6D94-4FBC-AA1A-A23DE433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12CC8-1294-4AB9-89D8-DA7AA94E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77061-A2FA-4361-BEAA-73846F4F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6884D-6AAA-4611-82E4-B5916C0E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22717-117B-4072-97D2-56382E38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37CA8-D2FA-4785-9DBC-ECFBD2F3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A22-A4FA-4DB8-91DE-32008163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155BE-9207-46FB-8005-8623CB45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EE0D6-8455-47FC-839A-3B56362B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511DB-6173-4CB6-ABE3-B47F74BE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36C50-1624-4401-9949-42236B36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753E6-AF37-42E2-B6D1-3A2FC9E4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EDC17-012F-4A33-AB0B-297B9CC6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086BF-9ED7-4051-B11F-015DF314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98932-36C4-4CD9-93F0-2BAF5644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5643C-9D3B-453F-BACF-8B333308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1632B-CE45-4E84-A879-F945ED19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849-3D21-4FD4-ACEE-743F6EB0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3E8B2-94D2-42E5-882A-ED785648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F0867-3031-4712-B443-9DD1626E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B2438-2D15-413B-8A87-99D1F63D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E7937-ED05-42DD-8A06-EDAE22BE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85077-F9D9-434B-A143-18E878CE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EDC1B-C7F5-42F6-A1D6-8C767A9D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43A0A-3EB3-44F6-93CF-F3860C97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C07C7-A980-407A-AC20-A04D1175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EB461-9BB5-471E-AA90-8E5C2B3C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3DD4C-50ED-40E9-BB18-F3090F7C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89D-5FEF-4C4E-BB83-7C34B73D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128CB-C315-4623-9B79-E3221FDD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427-5236-4AE7-83D9-B1394AE2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614-120E-45E9-BBC7-715A6147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431-ABF2-4224-9A19-FC2E1C6B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8a1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8a1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97b7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3F13-20A1-4FF9-B02F-71A40E3AD9E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797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eb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2a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8a1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8a1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97b7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1ED1-D313-4CE2-8BBA-AB43995A798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97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eb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2a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8a1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8a1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97b7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9BA9-BBDF-461F-B648-50656FD3F56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8a1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8a1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97b7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BCF5-B67E-46D0-903D-00A3EE1983E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97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eb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2a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8a1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8a1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97b7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4D77-5792-44FA-9B22-F4F93291CC6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342"/>
                </a:solidFill>
                <a:latin typeface="Perpetua"/>
              </a:rPr>
              <a:t>Matt Gome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Debating the Disadvantage (DA)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The Block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tending a DA or multiple DA’s through the block? Follow these generic guidelines (see specific speech lectures for more specific rule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oever takes the counterplan should take the net benefi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oever doesn’t have the counterplan should get the other DA and case if the 2N didn’t alread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y to keep LIKE WORLDS togeth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How to Extend a DA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One: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“DA outweighs and turns the case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Two: Any additional impacts if needed (no more than 2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Three: Uniqueness deba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Four: Link Deba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ve 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Negative Uniqueness Debating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tep One: Extend your uniqueness by giving a short summary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Extend our PIT 6/20 evidence from the 1NC, The G20 Summit has just met and agreed upon an action plan to eliminate protectionist policie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tep Two: Evidence comparison, what makes yours better than theirs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Qua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edictive vs descript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peculative vs conclus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342"/>
                </a:solidFill>
                <a:latin typeface="Franklin Gothic Book"/>
              </a:rPr>
              <a:t>Negative Uniqueness Debating Cont…</a:t>
            </a:r>
            <a:endParaRPr b="0" lang="en-US" sz="36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Three: Indict their evidence if you didn’t alread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 the arguments abo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Four: Uniqueness Wal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1-2 more uniqueness card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Negative Link Debating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ither Link or Impact will be where you spend the most ti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One: Extend 1NC Li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n’t just explain it generic – apply it to the aff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lif D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peat Steps 2-4 from UQ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Negative Impact Debating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TE: SHOULD BE DONE AT TOP OF FLOW ON IMPACT CAL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One: Impact Calculu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A outweighs and turns the case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Two: Turns case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Three: Turns case car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Four: New impact modu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2NR on the DA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hould usually be combined with either a CP or C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yout is same as 1N except should be ALL extensions, no new card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op of the flow: Explain what the aff DIDN’T D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ven if” and “If I win” statemen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2NR Cont…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ext, Impacts all on top-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mpact Cal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urns Case (lots of allocation here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swering any cards or analysi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ine by line extending 2NC cards and analysis using the formul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342"/>
                </a:solidFill>
                <a:latin typeface="Perpetua"/>
              </a:rPr>
              <a:t>http://www.youtube.com/watch?v=93CsOgvNUo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Part 3: Answering the DA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USE YOUR AFF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roughout the following section I’ll show you how to use cards from your 1AC to win you the debate without needing to read new car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342"/>
                </a:solidFill>
                <a:latin typeface="Perpetua"/>
              </a:rPr>
              <a:t>http://www.youtube.com/watch?v=k2ZYIdmdx1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Part One: What is a Disadvantage?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How to answer a DA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6 categori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se Outweighs –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why your advantages outweigh the DA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n-Unique –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the squo has changed/something has triggered the link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Link – The plan doesn’t cause the chan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nk Turn – The squo causes the DA and plan solves 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Impact – their impact isn’t re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mpact Turn – their impact is actually a good th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Strategies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rategy #1 for answering the D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se outweighs the D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n-Uni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Li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mpact Tur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Strategies Cont..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rategy #2 for answering the D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se outweig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n-Uni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nk Tur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impa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The Double Turn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o NOT read a link turn AND an impact turn: the link turn actually links you to the impact turn – you just flip the DA arou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G: Buy America DA:  Original argument – plan increases protectionism.  Protectionism causes trade w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nk turn is – plan DECREASES protectionism.  Impact turn is Protectionism good. For example - Ste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Case Outweighs?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e impact cal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re on this la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re importantly, make your impact story a lot more clear than the negative impact sto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Non-Unique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nderestimated argument – defensiv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atus Quo is the opposite of what they sa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G: Buy America DA – US agrees on G20, proves no protectionis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Non-Unique Cont…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kes your link/impact turn OFFEN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G: Link Turn – Plan key to RESTORING Non-Protectionis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/ NUQ: DA is a new advantage because squo isn’t cooperating and plan causes cooperatio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/o NUQ: still offense IF they go for the DA, but not a new advantage because the squo is ALREADY cooperating and the plan just causes MORE cooperation, doesn’t RESTORE it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Affirmative Link Debating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Link –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2A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One: Extend applicable cards from 1A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08a1d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G: Extend our ____ evidence from the 1AC that says plan doesn’t happen alone, china and Euros are on board with u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Two: Read New Link Cards and Analysi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1A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One: Extend 1AC or 2AC cards and explain why the 2NC extension doesn’t answer the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Two: Read 1-2 cards IF NECESSA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Affirmative Link Debating Cont..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nk Turn –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2A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One: Extend Applicable Cards from 1A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Two: Cards &amp; Analysi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1A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ame as No Link 1A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37160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Affirmative Impact Debating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Impact –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2A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One: The plan encompasses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Two: Card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Three: Analysi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Uniqueness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will occur in the status qu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ctors for good uniquen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ost-dating – things chang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rink – why is the squo good but not guarante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Qualifications – who knows wha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Affirmative Impact Debate Cont…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1A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One: Extensions of the 2A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Two: Repeat steps 1-3 of 2AC for any NEW impact scenario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ew Card (1) if necessary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SWER THE TURNS THE CASE ARGUMENT AS A NEW IMPACT SCENAR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136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342"/>
                </a:solidFill>
                <a:latin typeface="Franklin Gothic Book"/>
              </a:rPr>
              <a:t>Affirmative Impact Debating Cont…</a:t>
            </a:r>
            <a:endParaRPr b="0" lang="en-US" sz="36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mpact Turn –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2A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One: Car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Two: Maybe your 1AC has the opposite impac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342"/>
                </a:solidFill>
                <a:latin typeface="Franklin Gothic Book"/>
              </a:rPr>
              <a:t>Affirmative Impact Debating Cont…</a:t>
            </a:r>
            <a:endParaRPr b="0" lang="en-US" sz="36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156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ep One: Exten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ep Two: 1-2 more card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ep Three: Response to negative answer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ep Four: Separate QUICK impact calc for impact tur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2AR Strategies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f they go for DA/Case: Spend 3 ½ on Case: If you win case, majority of the DA goes away because you should have more impac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f they go for DA/CP: Spend More time on DA because CP is irrelevant without a NB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2AR Layout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088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p – Big explanation of impact calc, why your impact story is better, and use of 1AC as a big turn to the D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xt, Uniqueness debate to makes turns offen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tend first, answer theirs nex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2AR Layout cont…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xt, Go for the impact or link TUR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tend first, (If Impact, impact calc next), (If link, why your story is more plausible next), answer theirs las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nally, IF you have time, do the no link or no impa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2AR should be OFFENSE OFFENSE OFFENS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Link</a:t>
            </a: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does the plan do that changes the status qu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ctors for good lin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pecificity – links about the 1AC vs the resolu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reshold – is the plan enough to change the squ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iversity – different ways the plan changes the squ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Internal Link (i/l)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that change cau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t always highlighted because it’s similar to the li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metimes they are warrants inside the lin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G: Auto Industry D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08a1d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gaging in Buy America policies departs from G20 norms which collapses global trade”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08a1d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at is the internal link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Impacts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y is changing the status quo b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ctors for good imp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gnitude – how bi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imeframe – how quickl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bability – how likel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urns case – how does it interact with the 1A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4342"/>
              </a:solidFill>
              <a:latin typeface="Perpet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Part Two: the Negative and running the DA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The Negative’s Goal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the aff has advantages, the neg ha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disadvantag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finition of a disadvantage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Loss or Damage as a result of” – The harm the plan cau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ve the impacts of the plan aren’t good enough to outweigh the DA of the pla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1NC: Your Job for the DA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re to read it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 a net benefit to the CP?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irectly after the CP flow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 an independent D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fter everything but cas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ke sure it has EVERY part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5:04:37Z</dcterms:created>
  <dc:creator>Matt</dc:creator>
  <dc:description/>
  <dc:language>en-US</dc:language>
  <cp:lastModifiedBy>The Adams Family</cp:lastModifiedBy>
  <dcterms:modified xsi:type="dcterms:W3CDTF">2012-08-29T13:15:00Z</dcterms:modified>
  <cp:revision>28</cp:revision>
  <dc:subject/>
  <dc:title>Debating the Disadvantage (DA)</dc:title>
</cp:coreProperties>
</file>